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32A-FDA1-45B7-9AB1-D5B248D9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028-C5CC-4A7F-B9CC-2C92410C82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8BED-A58A-4AB5-9D16-A7EC4C938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3D7-3F93-4F47-BC69-ABC482DEB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E3B-822F-481E-A8EF-BF1448262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46E-AD26-4969-AB6C-8F871C6D8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228-8F14-424B-B53F-3078647D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1EA-CC62-4EB9-AB9C-C2BF150F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F82-BEE2-4A9E-943D-B5220645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74A-B39F-4165-A279-00AED461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8D6-95C4-4CA5-B778-DEE7E80D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09-3880-4F7E-A850-59FE63B3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92E-82EB-4BB0-93A8-08FA4B15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15A-52C5-461C-8A26-C48DB731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D12-87F1-475A-9701-55BB09B2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073-C54E-4D99-ABA3-EDE77A8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A05-8CE3-41CC-963F-15507F2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01C-9FC9-4DC0-8F41-B00C109B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FDE8-8984-4D1A-B75A-870407B57D07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powell@acs-england.co.uk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orld History 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th Gra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rvey Cours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historic – Renaissance (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entury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ught thematically (Religion, Government, Conquest, Geography, Society, Economics and Engineerin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urse Boo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ople and Nations by Mazour and Peop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" name="Picture 4" descr="BOOKCVR"/>
          <p:cNvPicPr/>
          <p:nvPr/>
        </p:nvPicPr>
        <p:blipFill>
          <a:blip r:embed="rId2"/>
          <a:stretch/>
        </p:blipFill>
        <p:spPr>
          <a:xfrm>
            <a:off x="3429000" y="2362320"/>
            <a:ext cx="22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s geography shaped histo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societies organiz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 have ancient religions had such a lasting impac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factors encourage economic and technological developmen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have ancient civilizations impacted our own lives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y Skil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eful reading and note-tak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ing and problem-sol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lying historical and geographical princi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p-reading and analyzing geographical docu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an argu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itical thinking and reflective reason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 rul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pec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nes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ten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ing &amp; Assessme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75000"/>
          </a:bodyPr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ding poli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rticipation gra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says worth double gra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nit tests are double too, but not short tes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ily writing and reading assignments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pen-note quizz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say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oup and individual projects and present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osed-note multiple-choice and essay exam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57040" indent="-257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ail: </a:t>
            </a:r>
            <a:r>
              <a:rPr b="0" lang="en-US" sz="3200" spc="-1" strike="noStrike" u="sng">
                <a:solidFill>
                  <a:srgbClr val="80ff00"/>
                </a:solidFill>
                <a:uFillTx/>
                <a:latin typeface="Comic Sans MS"/>
                <a:hlinkClick r:id="rId2"/>
              </a:rPr>
              <a:t>hknight@acs-england.co.u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nrietta Knigh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1:28Z</dcterms:created>
  <dc:creator/>
  <dc:description/>
  <dc:language>en-US</dc:language>
  <cp:lastModifiedBy>IT User</cp:lastModifiedBy>
  <dcterms:modified xsi:type="dcterms:W3CDTF">2010-09-16T16:39:23Z</dcterms:modified>
  <cp:revision>14</cp:revision>
  <dc:subject/>
  <dc:title>IB History</dc:title>
</cp:coreProperties>
</file>